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414-F8BE-474E-B1DE-4D8771807A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hgjhj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hgjhj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A3C-2450-4ECC-8C89-A5B64B23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610-92BA-45CE-91AC-622FB6AD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1C4-2185-49AB-9EB6-61F71CBA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026-3284-4FD1-826D-8B187CB5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359-7D89-4CB7-93E8-C9C610BA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A43-D0C3-468E-93E7-3F7667A0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4C2-8171-4353-B2DC-E95FE6ED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E39-4FBF-4AB8-898F-D2AA9000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4EA-02F6-453B-88EE-58909F1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B88-1489-4DF5-9355-4E1CA6C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4CA-FB3F-4EDD-8256-208FBC22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D86-03EA-47A7-B7D5-BB319A23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345C-B18A-4F49-A290-FF43A307D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6" descr="1069X799 POWER POINT comp.jpg"/>
          <p:cNvPicPr/>
          <p:nvPr/>
        </p:nvPicPr>
        <p:blipFill>
          <a:blip r:embed="rId2"/>
          <a:srcRect l="0" t="25268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ellipse"/>
          <p:cNvPicPr/>
          <p:nvPr/>
        </p:nvPicPr>
        <p:blipFill>
          <a:blip r:embed="rId3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ASDM LOGO TRANSPARENT"/>
          <p:cNvPicPr/>
          <p:nvPr/>
        </p:nvPicPr>
        <p:blipFill>
          <a:blip r:embed="rId4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8" descr="ellipse"/>
          <p:cNvPicPr/>
          <p:nvPr/>
        </p:nvPicPr>
        <p:blipFill>
          <a:blip r:embed="rId5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9" descr="ASDM LOGO TRANSPARENT"/>
          <p:cNvPicPr/>
          <p:nvPr/>
        </p:nvPicPr>
        <p:blipFill>
          <a:blip r:embed="rId6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12" name="Espace réservé du pied de page 4"/>
          <p:cNvSpPr/>
          <p:nvPr/>
        </p:nvSpPr>
        <p:spPr>
          <a:xfrm>
            <a:off x="3124080" y="64292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6" descr="1069X799 POWER POINT comp.jpg"/>
          <p:cNvPicPr/>
          <p:nvPr/>
        </p:nvPicPr>
        <p:blipFill>
          <a:blip r:embed="rId2"/>
          <a:srcRect l="0" t="25268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ellipse"/>
          <p:cNvPicPr/>
          <p:nvPr/>
        </p:nvPicPr>
        <p:blipFill>
          <a:blip r:embed="rId3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SDM LOGO TRANSPARENT"/>
          <p:cNvPicPr/>
          <p:nvPr/>
        </p:nvPicPr>
        <p:blipFill>
          <a:blip r:embed="rId4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llipse"/>
          <p:cNvPicPr/>
          <p:nvPr/>
        </p:nvPicPr>
        <p:blipFill>
          <a:blip r:embed="rId5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ASDM LOGO TRANSPARENT"/>
          <p:cNvPicPr/>
          <p:nvPr/>
        </p:nvPicPr>
        <p:blipFill>
          <a:blip r:embed="rId6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56" name="Espace réservé du pied de page 4"/>
          <p:cNvSpPr/>
          <p:nvPr/>
        </p:nvSpPr>
        <p:spPr>
          <a:xfrm>
            <a:off x="3124080" y="64292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124080" y="65721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-71280"/>
            <a:ext cx="9144000" cy="7044120"/>
          </a:xfrm>
          <a:prstGeom prst="rect">
            <a:avLst/>
          </a:prstGeom>
          <a:solidFill>
            <a:srgbClr val="3d3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ASDM-LOGO-COUL-FONDGRIS"/>
          <p:cNvPicPr/>
          <p:nvPr/>
        </p:nvPicPr>
        <p:blipFill>
          <a:blip r:embed="rId1"/>
          <a:srcRect l="0" t="0" r="0" b="12693"/>
          <a:stretch/>
        </p:blipFill>
        <p:spPr>
          <a:xfrm>
            <a:off x="0" y="0"/>
            <a:ext cx="371160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928800" y="600084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sociation des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yndicats de la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istribution et de la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intenance des matéri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6"/>
          <p:cNvSpPr/>
          <p:nvPr/>
        </p:nvSpPr>
        <p:spPr>
          <a:xfrm>
            <a:off x="285840" y="1785960"/>
            <a:ext cx="864396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Séminaire ASDM 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Ecole-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« Echanges sur la rénovation de la voie professionnell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8"/>
          <p:cNvSpPr/>
          <p:nvPr/>
        </p:nvSpPr>
        <p:spPr>
          <a:xfrm>
            <a:off x="571680" y="44290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18 et 19 novembr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Lycée des métiers Porte du Lot – Clai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necteur droit 10"/>
          <p:cNvSpPr/>
          <p:nvPr/>
        </p:nvSpPr>
        <p:spPr>
          <a:xfrm>
            <a:off x="857160" y="6000840"/>
            <a:ext cx="707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57200" y="2427120"/>
            <a:ext cx="914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 de la profession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5% CAP - 50% BAC PRO - 25% B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lissements vœux « 2°+BAC STI… » &gt;&gt; BAC PRO 3 ANS (sécurité du parcour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P : certains élèves en grandes difficul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TS : positionnement inchangé,  accès par accompagnement personnal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8600" y="12193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Positionnement par rapport au CAP, 2nde 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générale, bac STI et 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27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29"/>
          <p:cNvSpPr/>
          <p:nvPr/>
        </p:nvSpPr>
        <p:spPr>
          <a:xfrm>
            <a:off x="533520" y="1925640"/>
            <a:ext cx="8076960" cy="35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ducation à l’orientation dans les collèges :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ispositifs d’alternance en 4°, stages découvertes, DP3H, DP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PO, forums, informations dans les collè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cuments supports de qualité (numériques ou pap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s découverte (CISMA-DLR + ….?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T ETRE VISIBLE et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30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31"/>
          <p:cNvSpPr/>
          <p:nvPr/>
        </p:nvSpPr>
        <p:spPr>
          <a:xfrm>
            <a:off x="228600" y="12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Méthodes et outils de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28600" y="1600200"/>
            <a:ext cx="86868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NOUVEAU RECRUTEMENT ? 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066680" y="1447920"/>
            <a:ext cx="731520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 algn="ctr"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1f497d"/>
                </a:solidFill>
                <a:latin typeface="Arial"/>
              </a:rPr>
              <a:t>PARTICIPANT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 représentants de la prof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4 établissements : 7 enseignants + 7 responsables de 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09480" y="1295280"/>
            <a:ext cx="81536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Etat des lieux (qualité, quantité, profil, proj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La procédure d’orientation post 3° et la 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répartition dans les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Positionnement par rapport au CAP, 2nde 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générale, bac STI et 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Méthodes et outils de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026"/>
          <p:cNvSpPr/>
          <p:nvPr/>
        </p:nvSpPr>
        <p:spPr>
          <a:xfrm>
            <a:off x="228600" y="12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Etat des lieux à 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27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457200" y="27432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alité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° vœux plus nombreux (notamment en P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marrage donc à relativ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érience de Vendôme (8 a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30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57200" y="1828800"/>
            <a:ext cx="8458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antité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pacités d’accueil globalement co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vertures de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lèves plus nombreux en PJ dans certains établis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ortance de la politique académique au niveau du terri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28600" y="12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Etat des lieux à 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09480" y="1981080"/>
            <a:ext cx="7925040" cy="38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fils :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 jeunes en moyenne à l’entrée car moins de redoublants en collè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jet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ant, BEP puis éventuellement BAC 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ntenant BAC PRO donc dynamique diffé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ains  BAC PRO + BTS dès la 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1160" indent="-18111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28600" y="12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Etat des lieux à 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09480" y="1981080"/>
            <a:ext cx="792504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dC de la profession : compétences inchang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iveau final conditionné par la motivation du jeune (Vendô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èves plus jeunes, parfois mineurs (moins matures, moins mobiles…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28600" y="12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Etat des lieux à la sor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051"/>
          <p:cNvSpPr/>
          <p:nvPr/>
        </p:nvSpPr>
        <p:spPr>
          <a:xfrm>
            <a:off x="30492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BAC PRO 3 AN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« NOUVEAU RECRUTEMENT ?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53"/>
          <p:cNvSpPr/>
          <p:nvPr/>
        </p:nvSpPr>
        <p:spPr>
          <a:xfrm>
            <a:off x="304920" y="2286000"/>
            <a:ext cx="8839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édure d’orientation = collège (2° pro ou générale&amp;tech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édure d’affectation = vœux fam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lobalement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lques cas de permutation CAP/BAC PR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054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55"/>
          <p:cNvSpPr/>
          <p:nvPr/>
        </p:nvSpPr>
        <p:spPr>
          <a:xfrm>
            <a:off x="228600" y="12193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La procédure d’orientation post 3° et la 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1f497d"/>
                </a:solidFill>
                <a:latin typeface="Arial"/>
              </a:rPr>
              <a:t>répartition dans les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8:16:28Z</dcterms:created>
  <dc:creator>Celine</dc:creator>
  <dc:description/>
  <dc:language>en-US</dc:language>
  <cp:lastModifiedBy>Celine</cp:lastModifiedBy>
  <dcterms:modified xsi:type="dcterms:W3CDTF">2010-01-06T10:45:28Z</dcterms:modified>
  <cp:revision>51</cp:revision>
  <dc:subject/>
  <dc:title>Diapositive 1</dc:title>
</cp:coreProperties>
</file>