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AE82-DD5C-4C31-9674-289FC6C6A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règlementation générale impo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durée globale de la P.F.M.P ne peut être partagée en plus de six pério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durée de chaque période ne peut être inférieure à trois semain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nombre de semaines minimum effectué avant la mise en place de la certification intermédiaire soit 6 semaines pour un BEP « rénové » ou 8 semaines pour un C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’est donc l’établissement qui décide du rythme d ’alternance approprié, sauf recommandations spéc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9A1-BD9D-4D5C-82BC-3AE088FDD9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règlementation générale impo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durée globale de la P.F.M.P ne peut être partagée en plus de six pério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durée de chaque période ne peut être inférieure à trois semain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nombre de semaines minimum effectué avant la mise en place de la certification intermédiaire soit 6 semaines pour un BEP « rénové » ou 8 semaines pour un C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’est donc l’établissement qui décide du rythme d ’alternance approprié, sauf recommandations spéc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CFF4-E0DB-4283-BD4B-E3EC838BA3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63D9-FE69-4DE4-BA7E-AEA0AFE252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EF4-BC1A-4743-8D91-393005D3D7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FD22-B35A-40C4-8A44-6626B37A31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règlementation générale impo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durée globale de la P.F.M.P ne peut être partagée en plus de six périod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a durée de chaque période ne peut être inférieure à trois semain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n nombre de semaines minimum effectué avant la mise en place de la certification intermédiaire soit 6 semaines pour un BEP « rénové » ou 8 semaines pour un C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C’est donc l’établissement qui décide du rythme d ’alternance approprié, sauf recommandations spéc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FC2E-6D2B-430D-96A3-0210F6EC87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25E-7A66-4F4B-BC53-4BF4F0B8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92B-37B7-49A9-A7E6-32B5B0F9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FE8-1886-4DA2-8365-0AD9B999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5B0-73F1-42FE-883E-18C1A62F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076-45C2-4978-96D4-B4F73055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735-F6F3-427C-BBEF-FACAA3C9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6CB-B3BC-4247-8612-7C1405D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0CE-8D3E-49EC-849E-C5EF7B1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AA8-5E3A-48F1-8F03-263F3F64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546-9EDE-47C7-9E17-2BC87969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D87-CDD0-440B-A01C-4783654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CC3-AFA8-4936-A318-D651198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54F-DB63-4430-80B6-058F48270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12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56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ellipse"/>
          <p:cNvPicPr/>
          <p:nvPr/>
        </p:nvPicPr>
        <p:blipFill>
          <a:blip r:embed="rId7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ASDM LOGO TRANSPARENT"/>
          <p:cNvPicPr/>
          <p:nvPr/>
        </p:nvPicPr>
        <p:blipFill>
          <a:blip r:embed="rId8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ellipse"/>
          <p:cNvPicPr/>
          <p:nvPr/>
        </p:nvPicPr>
        <p:blipFill>
          <a:blip r:embed="rId9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ASDM LOGO TRANSPARENT"/>
          <p:cNvPicPr/>
          <p:nvPr/>
        </p:nvPicPr>
        <p:blipFill>
          <a:blip r:embed="rId10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4288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6" descr="1069X799 POWER POINT comp.jpg"/>
          <p:cNvPicPr/>
          <p:nvPr/>
        </p:nvPicPr>
        <p:blipFill>
          <a:blip r:embed="rId2"/>
          <a:srcRect l="0" t="25268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llipse"/>
          <p:cNvPicPr/>
          <p:nvPr/>
        </p:nvPicPr>
        <p:blipFill>
          <a:blip r:embed="rId3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ASDM LOGO TRANSPARENT"/>
          <p:cNvPicPr/>
          <p:nvPr/>
        </p:nvPicPr>
        <p:blipFill>
          <a:blip r:embed="rId4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llipse"/>
          <p:cNvPicPr/>
          <p:nvPr/>
        </p:nvPicPr>
        <p:blipFill>
          <a:blip r:embed="rId5">
            <a:lum bright="70000" contrast="-70000"/>
            <a:alphaModFix amt="10000"/>
          </a:blip>
          <a:stretch/>
        </p:blipFill>
        <p:spPr>
          <a:xfrm>
            <a:off x="2819520" y="1066680"/>
            <a:ext cx="3543120" cy="4610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5334120" y="6400800"/>
            <a:ext cx="3657600" cy="457200"/>
          </a:xfrm>
          <a:prstGeom prst="rect">
            <a:avLst/>
          </a:prstGeom>
          <a:solidFill>
            <a:srgbClr val="3d3f3c"/>
          </a:solidFill>
          <a:ln w="9360">
            <a:solidFill>
              <a:srgbClr val="3d3f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ASDM LOGO TRANSPARENT"/>
          <p:cNvPicPr/>
          <p:nvPr/>
        </p:nvPicPr>
        <p:blipFill>
          <a:blip r:embed="rId6"/>
          <a:stretch/>
        </p:blipFill>
        <p:spPr>
          <a:xfrm>
            <a:off x="7696080" y="6248520"/>
            <a:ext cx="1600200" cy="877680"/>
          </a:xfrm>
          <a:prstGeom prst="rect">
            <a:avLst/>
          </a:prstGeom>
          <a:ln w="0">
            <a:noFill/>
          </a:ln>
        </p:spPr>
      </p:pic>
      <p:sp>
        <p:nvSpPr>
          <p:cNvPr id="109" name="Espace réservé du pied de page 4"/>
          <p:cNvSpPr/>
          <p:nvPr/>
        </p:nvSpPr>
        <p:spPr>
          <a:xfrm>
            <a:off x="3124080" y="64292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5"/>
          </p:nvPr>
        </p:nvSpPr>
        <p:spPr>
          <a:xfrm>
            <a:off x="3124080" y="65721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éminaire Claira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0" y="-71280"/>
            <a:ext cx="9144000" cy="7044120"/>
          </a:xfrm>
          <a:prstGeom prst="rect">
            <a:avLst/>
          </a:prstGeom>
          <a:solidFill>
            <a:srgbClr val="3d3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SDM-LOGO-COUL-FONDGRIS"/>
          <p:cNvPicPr/>
          <p:nvPr/>
        </p:nvPicPr>
        <p:blipFill>
          <a:blip r:embed="rId1"/>
          <a:srcRect l="0" t="0" r="0" b="12693"/>
          <a:stretch/>
        </p:blipFill>
        <p:spPr>
          <a:xfrm>
            <a:off x="0" y="0"/>
            <a:ext cx="3711600" cy="1484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928800" y="60008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sociation des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yndicats de la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istribution et de la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intenance des matéri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285840" y="1785960"/>
            <a:ext cx="864396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Séminaire ASDM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Ecole-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« Echanges sur la rénovation de la voie professionnell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571680" y="44290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8 et 19 novem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Lycée des métiers Porte du Lot – Clai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necteur droit 10"/>
          <p:cNvSpPr/>
          <p:nvPr/>
        </p:nvSpPr>
        <p:spPr>
          <a:xfrm>
            <a:off x="857160" y="6000840"/>
            <a:ext cx="707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voie scolaire et apprentissag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85480" y="14288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partition des activités entre le lycée et l’entrepri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scolaire: la nouvelle réglementation impose 22 semaines de périodes en milieu professionnel (P.F.M.P.) sur le cycle de 3 ans. L’entreprise doit être considérée comme un lieu de formation à part entière et il est donc indispensable d’assurer la complémentarité des apprentissages entre les deux lieux de form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voie scolaire et apprentissag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5480" y="14288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épartition des activités entre le CFA et l’entrepri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apprentissage: la réglementation imposait 1350 heures de formation minimum pour le BAC PRO en 2 ans . Ce minimum est porté à 1850 heures un bac pro en 3 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entreprise est responsable de la formation professionnelle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(elle est un lieu de formation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le CFA a la charge d’organiser le plan de formation et la répartition des activités entre l’entreprise et le CF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(voie scolai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ieurs pistes sont à explorer pour envisager de mieux préparer nos élèves aux situations professionnelle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meilleure préparation des P.F.M.P. par l’exploitation en amont des exigences requises en entreprise (rencontres avec des professionnels, visites d’entreprises….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optimisation de l’utilisation des livrets de suivi des P.F.M.P. : une préparation en enseignement professionnel des attendus et des contenus du livret, une fiche explicative à l’attention des responsables et des tuteurs d’entreprise sur les objectifs de la situation en entreprise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(voie scolai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travail concerté et transdisciplinaire sur le dossier qui restitue l’expérience et les compétences acqui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isation des P.F.M.P.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quipes pédagogiques: enseignants secteur professionnel et général (Protocole P.F.M.P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partition des 22 sema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isation de l’horaire année et des contenu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Horaires et alignement des différentes classes Bac. Pro 3 a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contenus :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Étoile à 5 branches 7"/>
          <p:cNvSpPr/>
          <p:nvPr/>
        </p:nvSpPr>
        <p:spPr>
          <a:xfrm>
            <a:off x="4357800" y="4000680"/>
            <a:ext cx="214200" cy="214200"/>
          </a:xfrm>
          <a:custGeom>
            <a:avLst/>
            <a:gdLst>
              <a:gd name="textAreaLeft" fmla="*/ 66240 w 214200"/>
              <a:gd name="textAreaRight" fmla="*/ 147960 w 21420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214314" h="214314">
                <a:moveTo>
                  <a:pt x="0" y="81860"/>
                </a:moveTo>
                <a:lnTo>
                  <a:pt x="81861" y="81861"/>
                </a:lnTo>
                <a:lnTo>
                  <a:pt x="107157" y="0"/>
                </a:lnTo>
                <a:lnTo>
                  <a:pt x="132453" y="81861"/>
                </a:lnTo>
                <a:lnTo>
                  <a:pt x="214314" y="81860"/>
                </a:lnTo>
                <a:lnTo>
                  <a:pt x="148087" y="132453"/>
                </a:lnTo>
                <a:lnTo>
                  <a:pt x="173384" y="214313"/>
                </a:lnTo>
                <a:lnTo>
                  <a:pt x="107157" y="163720"/>
                </a:lnTo>
                <a:lnTo>
                  <a:pt x="40930" y="214313"/>
                </a:lnTo>
                <a:lnTo>
                  <a:pt x="66227" y="132453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Étoile à 5 branches 10"/>
          <p:cNvSpPr/>
          <p:nvPr/>
        </p:nvSpPr>
        <p:spPr>
          <a:xfrm>
            <a:off x="2786040" y="5214960"/>
            <a:ext cx="214200" cy="214200"/>
          </a:xfrm>
          <a:custGeom>
            <a:avLst/>
            <a:gdLst>
              <a:gd name="textAreaLeft" fmla="*/ 66240 w 214200"/>
              <a:gd name="textAreaRight" fmla="*/ 147960 w 21420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214314" h="214314">
                <a:moveTo>
                  <a:pt x="0" y="81860"/>
                </a:moveTo>
                <a:lnTo>
                  <a:pt x="81861" y="81861"/>
                </a:lnTo>
                <a:lnTo>
                  <a:pt x="107157" y="0"/>
                </a:lnTo>
                <a:lnTo>
                  <a:pt x="132453" y="81861"/>
                </a:lnTo>
                <a:lnTo>
                  <a:pt x="214314" y="81860"/>
                </a:lnTo>
                <a:lnTo>
                  <a:pt x="148087" y="132453"/>
                </a:lnTo>
                <a:lnTo>
                  <a:pt x="173384" y="214313"/>
                </a:lnTo>
                <a:lnTo>
                  <a:pt x="107157" y="163720"/>
                </a:lnTo>
                <a:lnTo>
                  <a:pt x="40930" y="214313"/>
                </a:lnTo>
                <a:lnTo>
                  <a:pt x="66227" y="132453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Étoile à 5 branches 8"/>
          <p:cNvSpPr/>
          <p:nvPr/>
        </p:nvSpPr>
        <p:spPr>
          <a:xfrm>
            <a:off x="3357720" y="3643200"/>
            <a:ext cx="214200" cy="214560"/>
          </a:xfrm>
          <a:custGeom>
            <a:avLst/>
            <a:gdLst>
              <a:gd name="textAreaLeft" fmla="*/ 66240 w 214200"/>
              <a:gd name="textAreaRight" fmla="*/ 147960 w 214200"/>
              <a:gd name="textAreaTop" fmla="*/ 82080 h 214560"/>
              <a:gd name="textAreaBottom" fmla="*/ 164160 h 214560"/>
            </a:gdLst>
            <a:ahLst/>
            <a:rect l="textAreaLeft" t="textAreaTop" r="textAreaRight" b="textAreaBottom"/>
            <a:pathLst>
              <a:path w="214314" h="214314">
                <a:moveTo>
                  <a:pt x="0" y="81860"/>
                </a:moveTo>
                <a:lnTo>
                  <a:pt x="81861" y="81861"/>
                </a:lnTo>
                <a:lnTo>
                  <a:pt x="107157" y="0"/>
                </a:lnTo>
                <a:lnTo>
                  <a:pt x="132453" y="81861"/>
                </a:lnTo>
                <a:lnTo>
                  <a:pt x="214314" y="81860"/>
                </a:lnTo>
                <a:lnTo>
                  <a:pt x="148087" y="132453"/>
                </a:lnTo>
                <a:lnTo>
                  <a:pt x="173384" y="214313"/>
                </a:lnTo>
                <a:lnTo>
                  <a:pt x="107157" y="163720"/>
                </a:lnTo>
                <a:lnTo>
                  <a:pt x="40930" y="214313"/>
                </a:lnTo>
                <a:lnTo>
                  <a:pt x="66227" y="132453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Étoile à 5 branches 12"/>
          <p:cNvSpPr/>
          <p:nvPr/>
        </p:nvSpPr>
        <p:spPr>
          <a:xfrm>
            <a:off x="7786800" y="4786200"/>
            <a:ext cx="214200" cy="214560"/>
          </a:xfrm>
          <a:custGeom>
            <a:avLst/>
            <a:gdLst>
              <a:gd name="textAreaLeft" fmla="*/ 66240 w 214200"/>
              <a:gd name="textAreaRight" fmla="*/ 147960 w 214200"/>
              <a:gd name="textAreaTop" fmla="*/ 82080 h 214560"/>
              <a:gd name="textAreaBottom" fmla="*/ 164160 h 214560"/>
            </a:gdLst>
            <a:ahLst/>
            <a:rect l="textAreaLeft" t="textAreaTop" r="textAreaRight" b="textAreaBottom"/>
            <a:pathLst>
              <a:path w="214314" h="214314">
                <a:moveTo>
                  <a:pt x="0" y="81860"/>
                </a:moveTo>
                <a:lnTo>
                  <a:pt x="81861" y="81861"/>
                </a:lnTo>
                <a:lnTo>
                  <a:pt x="107157" y="0"/>
                </a:lnTo>
                <a:lnTo>
                  <a:pt x="132453" y="81861"/>
                </a:lnTo>
                <a:lnTo>
                  <a:pt x="214314" y="81860"/>
                </a:lnTo>
                <a:lnTo>
                  <a:pt x="148087" y="132453"/>
                </a:lnTo>
                <a:lnTo>
                  <a:pt x="173384" y="214313"/>
                </a:lnTo>
                <a:lnTo>
                  <a:pt x="107157" y="163720"/>
                </a:lnTo>
                <a:lnTo>
                  <a:pt x="40930" y="214313"/>
                </a:lnTo>
                <a:lnTo>
                  <a:pt x="66227" y="132453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Étoile à 5 branches 9"/>
          <p:cNvSpPr/>
          <p:nvPr/>
        </p:nvSpPr>
        <p:spPr>
          <a:xfrm>
            <a:off x="3143160" y="5214960"/>
            <a:ext cx="214560" cy="214200"/>
          </a:xfrm>
          <a:custGeom>
            <a:avLst/>
            <a:gdLst>
              <a:gd name="textAreaLeft" fmla="*/ 66240 w 214560"/>
              <a:gd name="textAreaRight" fmla="*/ 148320 w 214560"/>
              <a:gd name="textAreaTop" fmla="*/ 81720 h 214200"/>
              <a:gd name="textAreaBottom" fmla="*/ 163800 h 214200"/>
            </a:gdLst>
            <a:ahLst/>
            <a:rect l="textAreaLeft" t="textAreaTop" r="textAreaRight" b="textAreaBottom"/>
            <a:pathLst>
              <a:path w="214314" h="214314">
                <a:moveTo>
                  <a:pt x="0" y="81860"/>
                </a:moveTo>
                <a:lnTo>
                  <a:pt x="81861" y="81861"/>
                </a:lnTo>
                <a:lnTo>
                  <a:pt x="107157" y="0"/>
                </a:lnTo>
                <a:lnTo>
                  <a:pt x="132453" y="81861"/>
                </a:lnTo>
                <a:lnTo>
                  <a:pt x="214314" y="81860"/>
                </a:lnTo>
                <a:lnTo>
                  <a:pt x="148087" y="132453"/>
                </a:lnTo>
                <a:lnTo>
                  <a:pt x="173384" y="214313"/>
                </a:lnTo>
                <a:lnTo>
                  <a:pt x="107157" y="163720"/>
                </a:lnTo>
                <a:lnTo>
                  <a:pt x="40930" y="214313"/>
                </a:lnTo>
                <a:lnTo>
                  <a:pt x="66227" y="13245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(apprentiss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istes pour optimiser l’interaction entre les activités réalisées en entreprise et au CFA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place d’un comité de pilotage qui associe des représentants des professionnels pour l ’élaboration et le suivi des plans de formation (contenus des apprentissages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isation de la communication en direction des chefs d’entreprise et des tuteurs (réunions de professionnels, visites d’entreprises…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ensibilisation des tuteurs voire formation à l’utilisation des différents documents supports d’Altern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L’ALT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ccession de périodes de formations dans des lieux différents (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école/entrepris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 et à des périod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lusieurs organisations possibles de cette altern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Proposition de 4 critè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L’ALT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– Statut de l’alternant (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scolaire, stagiaire de la formation professionnelle, apprenti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– Durées des différentes périodes en entreprise et à l’école et rythme d’alternance de ces péri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L’ ALT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40096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 – Contenu des activités  attribuées ou réalisées dans chaque lieu de formation (savoir, savoir faire, savoir êt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libri"/>
              </a:rPr>
              <a:t>- On apprend à l’ école, on applique en entrepr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libri"/>
              </a:rPr>
              <a:t>- On apprend le métier à l’école, on appréhende la réalité professionnelle en entrepr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libri"/>
              </a:rPr>
              <a:t>- On se pose des questions en entreprise, on apporte des réponses à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Calibri"/>
              </a:rPr>
              <a:t>……………………………………………………………………</a:t>
            </a:r>
            <a:r>
              <a:rPr b="0" i="1" lang="fr-FR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L’ALT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28760" y="16426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 – les liens qui existent entre les  lieux et les périodes de 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iens institutio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iens hu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iens pédagog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alibri"/>
              </a:rPr>
              <a:t>L’alternance peut prendre des form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(voie scolaire et apprentiss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OBJECTIFS DE LA REFOR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Bulletin officiel spécial n°2 du 19 février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nforcer une voie qui contribue à l’élévation des niveaux de qualif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er le slogan « oser la 2nde » en « oser le bac 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voriser l’accès en B.T.S des élèves qui en ont les capacités (même si le baccalauréat professionnel demeure un diplôme à vocation d’insertion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712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640" y="61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voie scol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Tableau 11" descr=""/>
          <p:cNvPicPr/>
          <p:nvPr/>
        </p:nvPicPr>
        <p:blipFill>
          <a:blip r:embed="rId1"/>
          <a:stretch/>
        </p:blipFill>
        <p:spPr>
          <a:xfrm>
            <a:off x="285840" y="1023840"/>
            <a:ext cx="864540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712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61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Bac.pro 3 ans et alternanc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pprentissag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Tableau 11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650440" cy="495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ac.pro 3ans et alternanc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voie scolaire et apprentissag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5480" y="14288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usieurs organisations sont possi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Voie scolaire en 3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Première année par la voie scolaire et 2 années en apprenti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 années par la voie scolaire et année terminale en apprenti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pprentissage en 3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16:28Z</dcterms:created>
  <dc:creator>Celine</dc:creator>
  <dc:description/>
  <dc:language>en-US</dc:language>
  <cp:lastModifiedBy>Celine</cp:lastModifiedBy>
  <dcterms:modified xsi:type="dcterms:W3CDTF">2010-01-06T12:58:29Z</dcterms:modified>
  <cp:revision>64</cp:revision>
  <dc:subject/>
  <dc:title>Diapositive 1</dc:title>
</cp:coreProperties>
</file>