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E39-CFA7-4BED-820A-14479D6D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D2E-36BE-499A-A479-7D00CBD0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743-EED9-4629-973F-4DF608FB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DB1-7666-4875-BAEF-CC96D4B6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3F1-46FB-4292-AFB1-08421F95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C0A-876B-4A04-867B-90A7BFBE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43F-4049-4B3D-B8B2-4536494F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3D5-E910-4707-9649-CA4A3F99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B53-F64B-4F0E-ADF6-BA61A22A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F28-2D93-4184-AA0E-94D4118E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E84-87B9-4234-9DA9-03EAB7BA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BE5-6575-40A3-899F-9D09FC42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E362-5374-4A84-80F2-0EED216F9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6" descr="1069X799 POWER POINT comp.jpg"/>
          <p:cNvPicPr/>
          <p:nvPr/>
        </p:nvPicPr>
        <p:blipFill>
          <a:blip r:embed="rId2"/>
          <a:srcRect l="0" t="25268" r="0" b="0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ellipse"/>
          <p:cNvPicPr/>
          <p:nvPr/>
        </p:nvPicPr>
        <p:blipFill>
          <a:blip r:embed="rId3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0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ASDM LOGO TRANSPARENT"/>
          <p:cNvPicPr/>
          <p:nvPr/>
        </p:nvPicPr>
        <p:blipFill>
          <a:blip r:embed="rId4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8" descr="ellipse"/>
          <p:cNvPicPr/>
          <p:nvPr/>
        </p:nvPicPr>
        <p:blipFill>
          <a:blip r:embed="rId5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0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9" descr="ASDM LOGO TRANSPARENT"/>
          <p:cNvPicPr/>
          <p:nvPr/>
        </p:nvPicPr>
        <p:blipFill>
          <a:blip r:embed="rId6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sp>
        <p:nvSpPr>
          <p:cNvPr id="12" name="Espace réservé du pied de page 4"/>
          <p:cNvSpPr/>
          <p:nvPr/>
        </p:nvSpPr>
        <p:spPr>
          <a:xfrm>
            <a:off x="3124080" y="64292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Séminaire Claira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6" descr="1069X799 POWER POINT comp.jpg"/>
          <p:cNvPicPr/>
          <p:nvPr/>
        </p:nvPicPr>
        <p:blipFill>
          <a:blip r:embed="rId2"/>
          <a:srcRect l="0" t="25268" r="0" b="0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ellipse"/>
          <p:cNvPicPr/>
          <p:nvPr/>
        </p:nvPicPr>
        <p:blipFill>
          <a:blip r:embed="rId3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SDM LOGO TRANSPARENT"/>
          <p:cNvPicPr/>
          <p:nvPr/>
        </p:nvPicPr>
        <p:blipFill>
          <a:blip r:embed="rId4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ellipse"/>
          <p:cNvPicPr/>
          <p:nvPr/>
        </p:nvPicPr>
        <p:blipFill>
          <a:blip r:embed="rId5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ASDM LOGO TRANSPARENT"/>
          <p:cNvPicPr/>
          <p:nvPr/>
        </p:nvPicPr>
        <p:blipFill>
          <a:blip r:embed="rId6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sp>
        <p:nvSpPr>
          <p:cNvPr id="56" name="Espace réservé du pied de page 4"/>
          <p:cNvSpPr/>
          <p:nvPr/>
        </p:nvSpPr>
        <p:spPr>
          <a:xfrm>
            <a:off x="3124080" y="64292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Séminaire Claira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ellipse"/>
          <p:cNvPicPr/>
          <p:nvPr/>
        </p:nvPicPr>
        <p:blipFill>
          <a:blip r:embed="rId7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ASDM LOGO TRANSPARENT"/>
          <p:cNvPicPr/>
          <p:nvPr/>
        </p:nvPicPr>
        <p:blipFill>
          <a:blip r:embed="rId8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ellipse"/>
          <p:cNvPicPr/>
          <p:nvPr/>
        </p:nvPicPr>
        <p:blipFill>
          <a:blip r:embed="rId9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ASDM LOGO TRANSPARENT"/>
          <p:cNvPicPr/>
          <p:nvPr/>
        </p:nvPicPr>
        <p:blipFill>
          <a:blip r:embed="rId10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4288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éminaire Claira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6" descr="1069X799 POWER POINT comp.jpg"/>
          <p:cNvPicPr/>
          <p:nvPr/>
        </p:nvPicPr>
        <p:blipFill>
          <a:blip r:embed="rId2"/>
          <a:srcRect l="0" t="25268" r="0" b="0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ellipse"/>
          <p:cNvPicPr/>
          <p:nvPr/>
        </p:nvPicPr>
        <p:blipFill>
          <a:blip r:embed="rId3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ASDM LOGO TRANSPARENT"/>
          <p:cNvPicPr/>
          <p:nvPr/>
        </p:nvPicPr>
        <p:blipFill>
          <a:blip r:embed="rId4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ellipse"/>
          <p:cNvPicPr/>
          <p:nvPr/>
        </p:nvPicPr>
        <p:blipFill>
          <a:blip r:embed="rId5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ASDM LOGO TRANSPARENT"/>
          <p:cNvPicPr/>
          <p:nvPr/>
        </p:nvPicPr>
        <p:blipFill>
          <a:blip r:embed="rId6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sp>
        <p:nvSpPr>
          <p:cNvPr id="109" name="Espace réservé du pied de page 4"/>
          <p:cNvSpPr/>
          <p:nvPr/>
        </p:nvSpPr>
        <p:spPr>
          <a:xfrm>
            <a:off x="3124080" y="64292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Séminaire Claira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5"/>
          </p:nvPr>
        </p:nvSpPr>
        <p:spPr>
          <a:xfrm>
            <a:off x="3124080" y="65721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éminaire Claira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sdm.fr/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-71280"/>
            <a:ext cx="9144000" cy="7044120"/>
          </a:xfrm>
          <a:prstGeom prst="rect">
            <a:avLst/>
          </a:prstGeom>
          <a:solidFill>
            <a:srgbClr val="3d3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ASDM-LOGO-COUL-FONDGRIS"/>
          <p:cNvPicPr/>
          <p:nvPr/>
        </p:nvPicPr>
        <p:blipFill>
          <a:blip r:embed="rId1"/>
          <a:srcRect l="0" t="0" r="0" b="12693"/>
          <a:stretch/>
        </p:blipFill>
        <p:spPr>
          <a:xfrm>
            <a:off x="0" y="0"/>
            <a:ext cx="3711600" cy="1484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928800" y="600084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sociation des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yndicats de la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istribution et de la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intenance des matéri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6"/>
          <p:cNvSpPr/>
          <p:nvPr/>
        </p:nvSpPr>
        <p:spPr>
          <a:xfrm>
            <a:off x="285840" y="1785960"/>
            <a:ext cx="864396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Séminaire ASDM 200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Ecole-Entre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« Echanges sur la rénovation de la voie professionnell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8"/>
          <p:cNvSpPr/>
          <p:nvPr/>
        </p:nvSpPr>
        <p:spPr>
          <a:xfrm>
            <a:off x="571680" y="442908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18 et 19 novembr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Lycée des métiers Porte du Lot – Clair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necteur droit 10"/>
          <p:cNvSpPr/>
          <p:nvPr/>
        </p:nvSpPr>
        <p:spPr>
          <a:xfrm>
            <a:off x="857160" y="6000840"/>
            <a:ext cx="707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8370720" y="5884920"/>
            <a:ext cx="78588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e l’horizontal et du verti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31800" indent="-53820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laquet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31800" indent="-53820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ffi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31800" indent="-53820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D 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1800" indent="-53820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ilms mét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1800" indent="-53820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ites Internet filiè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1800" indent="-53820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pérations de promo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1800" indent="-538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8" descr="C:\Users\Celine\Documents\ASDM\ASDM\ASDM\SYNDICATS\SEDIMA\images\affiche enquete.jpg"/>
          <p:cNvPicPr/>
          <p:nvPr/>
        </p:nvPicPr>
        <p:blipFill>
          <a:blip r:embed="rId1"/>
          <a:stretch/>
        </p:blipFill>
        <p:spPr>
          <a:xfrm>
            <a:off x="3571920" y="1071720"/>
            <a:ext cx="1928880" cy="2714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5929200" y="1071720"/>
            <a:ext cx="2951280" cy="1785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6000840" y="3500280"/>
            <a:ext cx="27860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Une Mécanique fantast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semble continuons à faire connaitre nos formations et nos mét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 toujours pour les jeun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« Des formations adaptées, un avenir assuré!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5" descr="C:\Users\Celine\AppData\Local\Microsoft\Windows\Temporary Internet Files\Content.IE5\E5NM7N1M\MPj04393560000[1].jpg"/>
          <p:cNvPicPr/>
          <p:nvPr/>
        </p:nvPicPr>
        <p:blipFill>
          <a:blip r:embed="rId1"/>
          <a:stretch/>
        </p:blipFill>
        <p:spPr>
          <a:xfrm>
            <a:off x="4143240" y="445788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14240" y="2530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ES FORMATIONS ADAPTEES,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UN AVENIR ASSURE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oneTexte 4"/>
          <p:cNvSpPr/>
          <p:nvPr/>
        </p:nvSpPr>
        <p:spPr>
          <a:xfrm rot="21310800">
            <a:off x="1213920" y="4743360"/>
            <a:ext cx="70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UNE MECANIQUE FANTASTIQU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3429000" y="0"/>
            <a:ext cx="2500200" cy="21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2500200" cy="2135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3"/>
          <a:stretch/>
        </p:blipFill>
        <p:spPr>
          <a:xfrm>
            <a:off x="6643800" y="0"/>
            <a:ext cx="25002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30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ésentation de l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07172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Éric Celest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résident de l’ASD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3 syndicat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’ASDM partenaire de l’Education Nationale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7000920" y="4429080"/>
            <a:ext cx="1325520" cy="1697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857160" y="2428920"/>
            <a:ext cx="1214640" cy="2538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C:\Users\Celine\Documents\ASDM\ASDM\ASDM\COMMUNICATION\Logos\Logo-DLR-light[1].jpg"/>
          <p:cNvPicPr/>
          <p:nvPr/>
        </p:nvPicPr>
        <p:blipFill>
          <a:blip r:embed="rId3"/>
          <a:stretch/>
        </p:blipFill>
        <p:spPr>
          <a:xfrm>
            <a:off x="2556000" y="3143160"/>
            <a:ext cx="3373200" cy="73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:\Users\Celine\Documents\ASDM\ASDM\ASDM\COMMUNICATION\Logos\LOGO SMJ TRANSPARENT 2.jpg"/>
          <p:cNvPicPr/>
          <p:nvPr/>
        </p:nvPicPr>
        <p:blipFill>
          <a:blip r:embed="rId4"/>
          <a:stretch/>
        </p:blipFill>
        <p:spPr>
          <a:xfrm>
            <a:off x="6286680" y="2643120"/>
            <a:ext cx="2286000" cy="1292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Users\Celine\Documents\ASDM\ASDM\ASDM\COMMUNICATION\Logos\logo ASDM format léger\ASDM LOGO TRANSPARENT.png"/>
          <p:cNvPicPr/>
          <p:nvPr/>
        </p:nvPicPr>
        <p:blipFill>
          <a:blip r:embed="rId5"/>
          <a:stretch/>
        </p:blipFill>
        <p:spPr>
          <a:xfrm>
            <a:off x="5495760" y="71280"/>
            <a:ext cx="3219480" cy="17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ogramme géné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13920" y="1600200"/>
            <a:ext cx="8472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atin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9 h 00 -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ueil et présentation du sémina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9 h 45 -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moyens de communication des professions 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Base ASDM, sites Internet et actions de promotion et de valor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0 h 30 -</a:t>
            </a:r>
            <a:r>
              <a:rPr b="1" lang="fr-FR" sz="20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7f7f7f"/>
                </a:solidFill>
                <a:latin typeface="Calibri"/>
              </a:rPr>
              <a:t>Pa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1 h 00 -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volution des effectifs ; secteurs et niveaux de formation 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cours général des mét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2 h 15 -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entation des ateliers et organisation des grou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2 h 45 -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7f7f7f"/>
                </a:solidFill>
                <a:latin typeface="Calibri"/>
              </a:rPr>
              <a:t>Déjeuner au lyc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3"/>
          <p:cNvSpPr/>
          <p:nvPr/>
        </p:nvSpPr>
        <p:spPr>
          <a:xfrm>
            <a:off x="357120" y="10000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Arial"/>
              </a:rPr>
              <a:t>MERCREDI 18 NOVEM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85840" y="12139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rcredi après mid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4 h 00 -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ois ateliers axés sur la relation Ecole-Entreprise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Calibri"/>
              </a:rPr>
              <a:t>Bac pro 3 ans et alternance (statut scolaire et apprentissage) : Organisations et conten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c00000"/>
                </a:solidFill>
                <a:latin typeface="Calibri"/>
              </a:rPr>
              <a:t>Certifications, passerelles et diplô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Calibri"/>
              </a:rPr>
              <a:t>Bac pro 3 ans : « nouveau » recrutement 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6 h 30 -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IN des travaux de la première journ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ébut des festivités organisées par le lycée des métiers Porte du Lo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programme détonnant 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itre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ogramme géné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ogramme géné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7120" y="114300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EUDI 19 NOVEMBRE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9 h 00 –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c00000"/>
                </a:solidFill>
                <a:latin typeface="Calibri"/>
              </a:rPr>
              <a:t>Restitutions des ateliers et déb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1 h 00 – </a:t>
            </a:r>
            <a:r>
              <a:rPr b="1" i="1" lang="fr-FR" sz="2000" spc="-1" strike="noStrike">
                <a:solidFill>
                  <a:srgbClr val="7f7f7f"/>
                </a:solidFill>
                <a:latin typeface="Calibri"/>
              </a:rPr>
              <a:t>Pa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1 h 30 –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isite de l’établiss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2 h 45 –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lôture de la rencontre 2009 par Jacques Perrin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3 h 00 –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Déjeuner au lycé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4 h 30 – </a:t>
            </a:r>
            <a:r>
              <a:rPr b="1" lang="fr-FR" sz="2000" spc="-1" strike="noStrike">
                <a:solidFill>
                  <a:srgbClr val="7f7f7f"/>
                </a:solidFill>
                <a:latin typeface="Calibri"/>
              </a:rPr>
              <a:t>Fin du sémina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issions de l’ASD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680" y="114300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c00000"/>
                </a:solidFill>
                <a:latin typeface="Calibri"/>
              </a:rPr>
              <a:t>Promouvoir et valoriser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Souteni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nos sections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mouvoi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nos métiers et form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Réalis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s outils de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Collecter et Réparti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Taxe d’apprenti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’ASDM au plus près de </a:t>
            </a:r>
            <a:r>
              <a:rPr b="1" lang="fr-FR" sz="4400" spc="-1" strike="noStrike">
                <a:solidFill>
                  <a:srgbClr val="c00000"/>
                </a:solidFill>
                <a:latin typeface="Calibri"/>
              </a:rPr>
              <a:t>vos ré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28480" y="118908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Suivre l’évolution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 l’offre de 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i="1" lang="fr-FR" sz="2400" spc="-1" strike="noStrike">
                <a:solidFill>
                  <a:srgbClr val="404040"/>
                </a:solidFill>
                <a:latin typeface="Calibri"/>
              </a:rPr>
              <a:t>(PRDF, rectorats, établissements de form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articiper et Impuls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actions sur vos territo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i="1" lang="fr-FR" sz="2400" spc="-1" strike="noStrike">
                <a:solidFill>
                  <a:srgbClr val="404040"/>
                </a:solidFill>
                <a:latin typeface="Calibri"/>
              </a:rPr>
              <a:t>(J3M, Mondial des métiers, salons, forum, partenariat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0" descr="gagnante1"/>
          <p:cNvPicPr/>
          <p:nvPr/>
        </p:nvPicPr>
        <p:blipFill>
          <a:blip r:embed="rId1"/>
          <a:srcRect l="56077" t="53999" r="28348" b="28557"/>
          <a:stretch/>
        </p:blipFill>
        <p:spPr>
          <a:xfrm>
            <a:off x="285840" y="4643280"/>
            <a:ext cx="1755720" cy="1349640"/>
          </a:xfrm>
          <a:prstGeom prst="rect">
            <a:avLst/>
          </a:prstGeom>
          <a:ln w="0">
            <a:noFill/>
          </a:ln>
        </p:spPr>
      </p:pic>
      <p:pic>
        <p:nvPicPr>
          <p:cNvPr id="182" name="Espace réservé du contenu 8" descr="2009-0002.JPG"/>
          <p:cNvPicPr/>
          <p:nvPr/>
        </p:nvPicPr>
        <p:blipFill>
          <a:blip r:embed="rId2"/>
          <a:stretch/>
        </p:blipFill>
        <p:spPr>
          <a:xfrm>
            <a:off x="2643120" y="4643280"/>
            <a:ext cx="1857600" cy="1357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7215120" y="4214880"/>
            <a:ext cx="1500120" cy="217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4" name="Picture 2" descr=""/>
          <p:cNvPicPr/>
          <p:nvPr/>
        </p:nvPicPr>
        <p:blipFill>
          <a:blip r:embed="rId4"/>
          <a:stretch/>
        </p:blipFill>
        <p:spPr>
          <a:xfrm>
            <a:off x="5072040" y="4214880"/>
            <a:ext cx="1430280" cy="214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’ASDM commu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5480" y="1428480"/>
            <a:ext cx="84294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Calibri"/>
              </a:rPr>
              <a:t>Vos informations enrichissent notre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ase de données - enquête de rentré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ite Internet </a:t>
            </a:r>
            <a:r>
              <a:rPr b="0" lang="fr-FR" sz="2800" spc="-1" strike="noStrike" u="sng">
                <a:solidFill>
                  <a:srgbClr val="0033cc"/>
                </a:solidFill>
                <a:uFillTx/>
                <a:latin typeface="Calibri"/>
              </a:rPr>
              <a:t>www.asdm.f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ite maintenance des matéri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laquette AS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99320" y="2786040"/>
            <a:ext cx="2201760" cy="1857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8" name="Picture 14" descr=""/>
          <p:cNvPicPr/>
          <p:nvPr/>
        </p:nvPicPr>
        <p:blipFill>
          <a:blip r:embed="rId3"/>
          <a:stretch/>
        </p:blipFill>
        <p:spPr>
          <a:xfrm>
            <a:off x="5214960" y="4500720"/>
            <a:ext cx="1276200" cy="190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08:16:28Z</dcterms:created>
  <dc:creator>Celine</dc:creator>
  <dc:description/>
  <dc:language>en-US</dc:language>
  <cp:lastModifiedBy>Celine</cp:lastModifiedBy>
  <dcterms:modified xsi:type="dcterms:W3CDTF">2009-12-01T15:45:04Z</dcterms:modified>
  <cp:revision>109</cp:revision>
  <dc:subject/>
  <dc:title>Diapositive 1</dc:title>
</cp:coreProperties>
</file>